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3F19-49D7-4AB2-BCC4-76254D2868F0}"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9535-F24B-42F4-AA57-9B05C0386B22}"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9011-DD93-48D9-B40A-E631465F03D9}" type="datetime5">
              <a:rPr b="1" lang="en-US" sz="1200" spc="-1" strike="noStrike">
                <a:solidFill>
                  <a:srgbClr val="000000"/>
                </a:solidFill>
                <a:latin typeface="Arial"/>
              </a:rPr>
              <a:t>Jul 30,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0158-504D-4E42-BEC4-D4BEC3F424D8}"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